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E73FCBD-79BE-4B9A-B03C-3F077FF640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831A719-34D9-44E3-BB5C-57E9269D69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by playing Devil Ducky’s Introducing the Book - http://www.devilducky.com/media/57946/ . Explain purpose of worksho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A7644B9-5072-4805-8690-4B31A27BE5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gs are also a genre – with wonderful examples of powerful wri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out Food Stamps and waiter po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 = What makes a blog a blog – what characterizes this gen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57A1DBF-8C81-4973-A0E1-798CBBA75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= genre on its own right.  Same as learning or teaching about any genre – do it yourself – start with mod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57E2CC7-2281-4055-8120-78BBD7F08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look at some defin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  Comprised of short, informal posts (voi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readers to comment on each post (community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y a calendar or a date list for accessing archives (history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 a “blogroll” that lists the various sites that particular blogger reads (cited source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an “RSS feed” that “syndicates” the content and lets you read posts in a separate reader called an “aggregator” (I come to you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22F231F-5A99-4878-8CC6-DECF04A20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over to Blogging10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F7EF816-96FA-42A2-B33A-A88FB573DC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eblogg-ed.com/wp-content/uploads/2006/05/WebLoggingSmall.mov . There are many ways to enter the blogosp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BE09550-DE06-481F-9402-BB35E6FE9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 handouts.  Tell teachers they will do some teaming up following this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E8E3274-1270-4FF1-8D51-B5ABAB072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notes on document c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92C1-F69B-4551-90FD-945AF0386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480" y="391212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525C-6A1F-4A44-A7AC-8D8177B89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4492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6509-C325-4833-96B2-D86045E14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23080" y="152388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3320" y="152388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480" y="391212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23080" y="391212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3320" y="391212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84EC-128D-4731-A3B7-C28962631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D9155-D43C-4273-B2BA-D4809F7FA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38F22-4F54-4376-8161-6C874839B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170F9-EC81-4DF4-BBA1-EDCC021B4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65281-33C4-439C-8775-8D0997CDA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A34D4-AF93-41B3-8C5E-4CDD71E24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08DD2-E566-4D31-BE44-C7360FACD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248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F42D6-D2FB-4A31-8149-1D82A752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1D8F-CBC2-4E2C-8A1B-2E1E73A03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4492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CA14F-554D-4E58-8F57-5858A7F5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2480" y="391212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EAF21-ED54-4CE1-A808-05AD3920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2480" y="391212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12072-05AB-4851-B7CE-393AD9D53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248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4492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59A38-250F-41FB-855E-7DEF42D73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23080" y="152388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93320" y="152388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2480" y="391212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23080" y="391212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93320" y="391212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98B3E-C72C-4803-8202-94407402E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043C-2D7F-4F73-9CEE-BDF7377C7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2D8E-0489-4611-A67D-A52086271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6E75-C5C0-4E86-B744-753958463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A56D-C378-4F07-9174-2D581E634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48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AC29-DC82-4FFF-8C4D-9A8460C56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4492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4786-63F0-4FCA-A37F-F674D363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480" y="391212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2D35-A444-4E69-96DA-7043023C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16400" y="6400800"/>
            <a:ext cx="208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A3B84-15AD-45AF-BEC6-ED787FB666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5CB34-6055-4B68-AAE1-A4815487DF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pitcherlady.my-expressions.com/index.html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landrumms.edublogs.org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eblogg-ed.com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blogs.writingproject.org/blogwrite118/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logging 101: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Blogging for the Absolute Beginn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504960" y="3123720"/>
            <a:ext cx="52578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il Desler &amp; Kathleen Wa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ology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look at classroom blog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d back to the sidebar (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http://connectingclassrooms.edublogs.or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and read as many classroom blogs as you can in 10 minu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 with at least two others and consider how blogging helps  stud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ringing blogs to the classroo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ive, free blog provid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blogs.org—the B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ads, no links other than your 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control, more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upload of documents (20 M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s to other blogs (could be anyth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pace to upload 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ant more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 us for more Web 2.0 workshop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dcasting 1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dcasting 1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aborative Writing 1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aborative Writing 1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itcherlad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pitcherlad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33720" y="1447920"/>
            <a:ext cx="55674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is a blog? blogging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676160" y="1447560"/>
            <a:ext cx="7010280" cy="38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b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si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journ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 net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4"/>
          <p:cNvSpPr txBox="1"/>
          <p:nvPr/>
        </p:nvSpPr>
        <p:spPr>
          <a:xfrm rot="5400000">
            <a:off x="5447160" y="2095920"/>
            <a:ext cx="3583080" cy="2590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b45a"/>
                </a:soli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YES</a:t>
            </a:r>
            <a:endParaRPr b="0" lang="en-US" sz="1800" spc="1" strike="noStrike">
              <a:ln w="0">
                <a:noFill/>
              </a:ln>
              <a:solidFill>
                <a:srgbClr val="00b45a"/>
              </a:soli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7" name="AutoShape 5"/>
          <p:cNvSpPr/>
          <p:nvPr/>
        </p:nvSpPr>
        <p:spPr>
          <a:xfrm>
            <a:off x="4648320" y="1676520"/>
            <a:ext cx="1218960" cy="3429000"/>
          </a:xfrm>
          <a:custGeom>
            <a:avLst/>
            <a:gdLst>
              <a:gd name="textAreaLeft" fmla="*/ 0 w 1218960"/>
              <a:gd name="textAreaRight" fmla="*/ 440280 w 121896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07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1981080" y="5867280"/>
            <a:ext cx="6477120" cy="366840"/>
          </a:xfrm>
          <a:prstGeom prst="rect">
            <a:avLst/>
          </a:prstGeom>
          <a:noFill/>
          <a:ln w="0">
            <a:noFill/>
          </a:ln>
          <a:effectLst>
            <a:outerShdw dist="99192" dir="7781944" blurRad="0" rotWithShape="0">
              <a:srgbClr val="000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1981080" y="5791320"/>
            <a:ext cx="5943600" cy="366480"/>
          </a:xfrm>
          <a:prstGeom prst="rect">
            <a:avLst/>
          </a:prstGeom>
          <a:noFill/>
          <a:ln w="0">
            <a:noFill/>
          </a:ln>
          <a:effectLst>
            <a:outerShdw dist="99192" dir="7781944" blurRad="0" rotWithShape="0">
              <a:srgbClr val="000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1905120" y="5562720"/>
            <a:ext cx="6476760" cy="366480"/>
          </a:xfrm>
          <a:prstGeom prst="rect">
            <a:avLst/>
          </a:prstGeom>
          <a:noFill/>
          <a:ln w="0">
            <a:noFill/>
          </a:ln>
          <a:effectLst>
            <a:outerShdw dist="99192" dir="7781944" blurRad="0" rotWithShape="0">
              <a:srgbClr val="000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blog is 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website that is up-dated frequently, with new material posted at the top of the page” (Blood)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erm used to describe a website that publishes content on a regular and ongoing basis. It can be a personal diary, a chronicle of commentaries on various issues and topics, or a creative journal, to name just a few” (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Bo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blog I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ally an easy way to publish content on the Internet [because] it allows you to put that content online without needing to know things like Hyper Text Markup Language (HTML) or coding languages” (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Richards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 + log = weblog = b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logs are simple to use!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gs do not require expensive software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gs do not require a background in web design and/or progra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can fill  out a form, you can blog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y blogging journe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3880" y="152388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ion board –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lways Ru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ing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logg-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nting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ing at the Speed of Crea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/Owning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gwal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ease join me on the journey.  Head to http://connectingclassrooms.edublogs.org and start blogg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view sample blog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next 10 minutes, read as many of the sample blogs listed in the sidebar und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logro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 you ca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ttp://connectingclassrooms.edublogs.or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ore the follow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is blog writing different from other types of writ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is it simil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an blogging help teach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blogging helps teach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 with at least two other peo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 your review notes and discuss the samples as both effective writing and as teacher resour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8T17:57:21Z</dcterms:created>
  <dc:creator>gail desler</dc:creator>
  <dc:description/>
  <dc:language>en-US</dc:language>
  <cp:lastModifiedBy>gdesler</cp:lastModifiedBy>
  <dcterms:modified xsi:type="dcterms:W3CDTF">2008-06-17T20:44:04Z</dcterms:modified>
  <cp:revision>35</cp:revision>
  <dc:subject/>
  <dc:title>Blogs: What Are They And What’s Their Classroom Use?</dc:title>
</cp:coreProperties>
</file>