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182B08-64A5-4477-B0E9-87E6D94EB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80DFF8-805F-47DD-B10A-C9C3C4350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by playing Devil Ducky’s Introducing the Book - http://www.devilducky.com/media/57946/ . Explain purpose of worksh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21C7A3-2652-40A5-B92F-B96B3F546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gs are also a genre – with wonderful examples of powerful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 Food Stamps and waiter p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 = What makes a blog a blog – what characterizes this gen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FEC3D0F-53FD-462D-AEB6-40ACAF8E7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= genre on its own right.  Same as learning or teaching about any genre – do it yourself – start with mod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DA03E39-C602-4244-A7E3-FFA3AF413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some defin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  Comprised of short, informal posts (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eaders to comment on each post (community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a calendar or a date list for accessing archives (history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a “blogroll” that lists the various sites that particular blogger reads (cited sourc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n “RSS feed” that “syndicates” the content and lets you read posts in a separate reader called an “aggregator” (I come to you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AA5A54-A7A8-421F-86E6-20C6DCC6E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over to Blogging1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373B190-B124-44A8-BFA1-0690818EF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eblogg-ed.com/wp-content/uploads/2006/05/WebLoggingSmall.mov . There are many ways to enter the blogosp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AA6B905-482A-4F6F-B415-B2D88FECA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andouts.  Tell teachers they will do some teaming up following this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E67922E-EDA1-486E-9E4C-17C530D8A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notes on document c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D83-7596-4761-9C6F-DBEC7870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FE79-68E6-4A30-B930-C3D0E603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E3BE-5722-4159-98EF-CC2CE1E5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9F3-306F-4A1B-8533-7FB06D21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74FD-D1DB-4DCD-BB5F-BEDF3C8A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711F-AE13-49E0-99AD-51740C52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B049-8910-4A4F-B53A-5F25A3E5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3C13-5163-4459-A038-F8851A53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434F-DDD6-464B-AC5E-51D54ADA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4D5A-B04B-46C5-BB1A-7D419676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D2F4-859C-483E-A23E-15776621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857-6782-4661-9CD6-C1B755BA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4734-A3DD-4087-B2EE-999C2783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5AE6-64B1-495A-B1F3-DE364EF7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985E-58C3-43FE-B898-F942B23C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7293-C45B-4F0F-9196-BB606DF9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64A6-44AE-4878-8E32-BD56EF73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DED-AE9A-4DE4-B17F-03CE009E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C10-14AB-4668-9E06-DA20ADEF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7DA-C474-4C91-8911-6AA6D70E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A55-BA77-4DFF-8DBF-CCA719D0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4BAC-80E3-42A8-AC02-CA5EFED4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AB25-C489-4148-83DF-6EC2C7AF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2C4-9501-4535-942E-9D7D6F1D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8512-F130-4970-97A5-723070366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13FA-F2E7-4CA1-910E-4818A5E79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tcherlady.my-expressions.com/index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landrumms.edublogs.org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logg-ed.com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blogs.writingproject.org/blogwrite118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logging 101: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logging for the Absolute Beginn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04960" y="3123720"/>
            <a:ext cx="5257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l Desler &amp; Kathleen W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look at classroom blog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 back to the sidebar (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ttp://connectingclassrooms.edublogs.o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read as many classroom blogs as you can in 10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with at least two others and consider how blogging helps 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inging blogs to the classroo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, free blog provi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blogs.org—the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ds, no links other than you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ntrol, mor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pload of documents (2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 to other blogs (could be anyt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pace to uploa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nt mor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us for more Web 2.0 worksho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casting 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casting 1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 Writing 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 Writing 1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tcherlad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pitcherlad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447920"/>
            <a:ext cx="5567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a blog? blogging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447560"/>
            <a:ext cx="7010280" cy="38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jour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net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 rot="5400000">
            <a:off x="5447160" y="2095920"/>
            <a:ext cx="3583080" cy="259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b45a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YES</a:t>
            </a:r>
            <a:endParaRPr b="0" lang="en-US" sz="1800" spc="1" strike="noStrike">
              <a:ln w="0">
                <a:noFill/>
              </a:ln>
              <a:solidFill>
                <a:srgbClr val="00b45a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648320" y="1676520"/>
            <a:ext cx="1218960" cy="3429000"/>
          </a:xfrm>
          <a:custGeom>
            <a:avLst/>
            <a:gdLst>
              <a:gd name="textAreaLeft" fmla="*/ 0 w 1218960"/>
              <a:gd name="textAreaRight" fmla="*/ 440280 w 12189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981080" y="5867280"/>
            <a:ext cx="6477120" cy="366840"/>
          </a:xfrm>
          <a:prstGeom prst="rect">
            <a:avLst/>
          </a:prstGeom>
          <a:noFill/>
          <a:ln w="0">
            <a:noFill/>
          </a:ln>
          <a:effectLst>
            <a:outerShdw dist="99192" dir="7781944" blurRad="0" rotWithShape="0">
              <a:srgbClr val="000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981080" y="5791320"/>
            <a:ext cx="5943600" cy="366480"/>
          </a:xfrm>
          <a:prstGeom prst="rect">
            <a:avLst/>
          </a:prstGeom>
          <a:noFill/>
          <a:ln w="0">
            <a:noFill/>
          </a:ln>
          <a:effectLst>
            <a:outerShdw dist="99192" dir="7781944" blurRad="0" rotWithShape="0">
              <a:srgbClr val="000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905120" y="5562720"/>
            <a:ext cx="6476760" cy="366480"/>
          </a:xfrm>
          <a:prstGeom prst="rect">
            <a:avLst/>
          </a:prstGeom>
          <a:noFill/>
          <a:ln w="0">
            <a:noFill/>
          </a:ln>
          <a:effectLst>
            <a:outerShdw dist="99192" dir="7781944" blurRad="0" rotWithShape="0">
              <a:srgbClr val="000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log is 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bsite that is up-dated frequently, with new material posted at the top of the page” (Blood)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rm used to describe a website that publishes content on a regular and ongoing basis. It can be a personal diary, a chronicle of commentaries on various issues and topics, or a creative journal, to name just a few”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o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log I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an easy way to publish content on the Internet [because] it allows you to put that content online without needing to know things like Hyper Text Markup Language (HTML) or coding languages”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ichard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+ log = weblog =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logs are simple to us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s do not require expensive softwar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s do not require a background in web design and/or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can fill  out a form, you can blo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y blogging journe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board –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lways Ru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logg-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ing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at the Speed of Cre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/Owning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gwal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join me on the journey.  Head to http://connectingclassrooms.edublogs.org and start blogg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view sample blog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next 10 minutes, read as many of the sample blogs listed in the sidebar und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ogro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you 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ttp://connectingclassrooms.edublogs.or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blog writing different from other types of wr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it simi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blogging help teac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blogging helps teac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with at least two other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your review notes and discuss the samples as both effective writing and as teacher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7:57:21Z</dcterms:created>
  <dc:creator>gail desler</dc:creator>
  <dc:description/>
  <dc:language>en-US</dc:language>
  <cp:lastModifiedBy>gdesler</cp:lastModifiedBy>
  <dcterms:modified xsi:type="dcterms:W3CDTF">2008-06-17T20:44:04Z</dcterms:modified>
  <cp:revision>35</cp:revision>
  <dc:subject/>
  <dc:title>Blogs: What Are They And What’s Their Classroom Use?</dc:title>
</cp:coreProperties>
</file>