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F57-F812-4F82-87A4-8682AB3D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360-E9AF-4897-9BCA-EDE5FDBB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23E-D914-428C-A04E-1C15CE792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20C-52FE-4C2C-B5F6-F92FC5D5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BCF-6C93-4174-995B-ECA87835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1AD-7F13-48A6-B040-55601E12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D8E1-BF4D-4AFB-9488-19D43186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557-63E2-4BCE-97EF-173B674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14D-DF16-4201-B670-9C76C93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3B5-7781-4033-8235-16C74D5B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9D8-16AA-4736-8666-0E70F1C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21C-E634-4356-9FEF-BABAB8AE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CDF4-41B2-48A4-957A-947A5377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hyperlink" Target="file:///G:/TechPlan09-12/6gmP4nk0EOE.wmv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21stcenturyskills.org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ega_conf_IMG_0891_2"/>
          <p:cNvPicPr/>
          <p:nvPr/>
        </p:nvPicPr>
        <p:blipFill>
          <a:blip r:embed="rId1"/>
          <a:srcRect l="17998" t="0" r="8398" b="0"/>
          <a:stretch/>
        </p:blipFill>
        <p:spPr>
          <a:xfrm>
            <a:off x="609480" y="2438280"/>
            <a:ext cx="3505320" cy="3171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USD Technology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9 -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040" y="28191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ing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Technologies and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digital media and environments to communicate and work collaboratively, including at a distance, to support individual learning and contribute to the learning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egusdlab"/>
          <p:cNvPicPr/>
          <p:nvPr/>
        </p:nvPicPr>
        <p:blipFill>
          <a:blip r:embed="rId1"/>
          <a:srcRect l="12959" t="0" r="0" b="0"/>
          <a:stretch/>
        </p:blipFill>
        <p:spPr>
          <a:xfrm>
            <a:off x="4876920" y="1752480"/>
            <a:ext cx="3809880" cy="2689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Information 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pply digital tools to gather, evaluate, and us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Thinking, Problem Solving, and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se critical thinking skills to plan and conduct research, manage projects, solve problems, and make informed decisions using appropriate digital tools and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VHSStudentandCounselor2"/>
          <p:cNvPicPr/>
          <p:nvPr/>
        </p:nvPicPr>
        <p:blipFill>
          <a:blip r:embed="rId1"/>
          <a:srcRect l="15096" t="0" r="3772" b="0"/>
          <a:stretch/>
        </p:blipFill>
        <p:spPr>
          <a:xfrm>
            <a:off x="5105520" y="1828800"/>
            <a:ext cx="3276360" cy="323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understand human, cultural, and societal issues related to technology and practice legal and ethical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Operation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emonstrate a sound understanding of technology concepts, systems, and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onnect_ed_047_500px"/>
          <p:cNvPicPr/>
          <p:nvPr/>
        </p:nvPicPr>
        <p:blipFill>
          <a:blip r:embed="rId2"/>
          <a:srcRect l="19601" t="0" r="6803" b="0"/>
          <a:stretch/>
        </p:blipFill>
        <p:spPr>
          <a:xfrm>
            <a:off x="4876920" y="1752480"/>
            <a:ext cx="3504960" cy="340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iste"/>
          <p:cNvPicPr/>
          <p:nvPr/>
        </p:nvPicPr>
        <p:blipFill>
          <a:blip r:embed="rId3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USD Tech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Duration: July 2009 –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B. 3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&amp; 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berbul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dog"/>
          <p:cNvPicPr/>
          <p:nvPr/>
        </p:nvPicPr>
        <p:blipFill>
          <a:blip r:embed="rId1"/>
          <a:stretch/>
        </p:blipFill>
        <p:spPr>
          <a:xfrm>
            <a:off x="4876920" y="1523880"/>
            <a:ext cx="4038480" cy="428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0" name="Text Box 6"/>
          <p:cNvSpPr/>
          <p:nvPr/>
        </p:nvSpPr>
        <p:spPr>
          <a:xfrm>
            <a:off x="2286000" y="62485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Cartoon by Peter Steiner. The New Yorker, July 5, 1993 issue (Vol.69 (LXIX) no. 20) page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safetylogo.gif"/>
          <p:cNvPicPr/>
          <p:nvPr/>
        </p:nvPicPr>
        <p:blipFill>
          <a:blip r:embed="rId2"/>
          <a:stretch/>
        </p:blipFill>
        <p:spPr>
          <a:xfrm>
            <a:off x="1066680" y="3962520"/>
            <a:ext cx="1362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TT Round 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development at sites will include training and support on how new technologies can transform the delivery of the adopted textbook from the traditional textbook/workbook approach to a highly participatory, interactive multimedia program that actively engages students in the learning process and requires them to problem-solve, communicate, create, and sha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mike"/>
          <p:cNvPicPr/>
          <p:nvPr/>
        </p:nvPicPr>
        <p:blipFill>
          <a:blip r:embed="rId1"/>
          <a:stretch/>
        </p:blipFill>
        <p:spPr>
          <a:xfrm>
            <a:off x="4800600" y="1523880"/>
            <a:ext cx="4038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ucture, Hardware, Technical Support and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 and 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Strategies with Adult Literacy Provi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mind"/>
          <p:cNvPicPr/>
          <p:nvPr/>
        </p:nvPicPr>
        <p:blipFill>
          <a:blip r:embed="rId1"/>
          <a:stretch/>
        </p:blipFill>
        <p:spPr>
          <a:xfrm>
            <a:off x="304920" y="533520"/>
            <a:ext cx="3352680" cy="471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lat"/>
          <p:cNvPicPr/>
          <p:nvPr/>
        </p:nvPicPr>
        <p:blipFill>
          <a:blip r:embed="rId2"/>
          <a:stretch/>
        </p:blipFill>
        <p:spPr>
          <a:xfrm>
            <a:off x="3124080" y="1523880"/>
            <a:ext cx="301968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work"/>
          <p:cNvPicPr/>
          <p:nvPr/>
        </p:nvPicPr>
        <p:blipFill>
          <a:blip r:embed="rId3"/>
          <a:stretch/>
        </p:blipFill>
        <p:spPr>
          <a:xfrm>
            <a:off x="5715000" y="228600"/>
            <a:ext cx="319392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669960" y="64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 rot="1980000">
            <a:off x="0" y="5181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 rot="20626200">
            <a:off x="1979640" y="990720"/>
            <a:ext cx="46278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Machine is Us/ing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ive, Research-Based Methods and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cognition that our plan must respond to the needs of a rapidly changing society and workforce and must, therefore, support creativity, critical thinking, communication and collaboration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2009-2012 Technology Plan reflects the research contained in studies from the Partnership for 21st Century Skill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1stroad"/>
          <p:cNvPicPr/>
          <p:nvPr/>
        </p:nvPicPr>
        <p:blipFill>
          <a:blip r:embed="rId1"/>
          <a:stretch/>
        </p:blipFill>
        <p:spPr>
          <a:xfrm>
            <a:off x="5410080" y="1600200"/>
            <a:ext cx="3419640" cy="3533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09480" y="4952880"/>
            <a:ext cx="6705720" cy="116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e are living in a different era that requires new thinking in our approach to educating our you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p21_logo"/>
          <p:cNvPicPr/>
          <p:nvPr/>
        </p:nvPicPr>
        <p:blipFill>
          <a:blip r:embed="rId2"/>
          <a:stretch/>
        </p:blipFill>
        <p:spPr>
          <a:xfrm>
            <a:off x="5638680" y="5715000"/>
            <a:ext cx="29718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cause “Shift Happens”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join the conver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ublic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148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remarkable consensus among educators and business and policy leaders on one key conclus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to bring what we teach and how we teach into the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 to Build a Student fo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1st Centu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IME Maga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18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ime"/>
          <p:cNvPicPr/>
          <p:nvPr/>
        </p:nvPicPr>
        <p:blipFill>
          <a:blip r:embed="rId1"/>
          <a:stretch/>
        </p:blipFill>
        <p:spPr>
          <a:xfrm>
            <a:off x="5105520" y="1295280"/>
            <a:ext cx="3267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21st Century Skills are necessary for all students in the U.S. and they should become the “design specs” for K-12 education in Californi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f California is to embrace the 21st Century Skills vision, online learning can, should, and must be employed to realize that vis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stud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21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5410080"/>
            <a:ext cx="2666880" cy="7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 “Partners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rtner21"/>
          <p:cNvPicPr/>
          <p:nvPr/>
        </p:nvPicPr>
        <p:blipFill>
          <a:blip r:embed="rId1"/>
          <a:stretch/>
        </p:blipFill>
        <p:spPr>
          <a:xfrm>
            <a:off x="457200" y="1371600"/>
            <a:ext cx="8381880" cy="38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p21_logo"/>
          <p:cNvPicPr/>
          <p:nvPr/>
        </p:nvPicPr>
        <p:blipFill>
          <a:blip r:embed="rId2"/>
          <a:stretch/>
        </p:blipFill>
        <p:spPr>
          <a:xfrm>
            <a:off x="5715000" y="5638680"/>
            <a:ext cx="2666880" cy="71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Skills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arc"/>
          <p:cNvPicPr/>
          <p:nvPr/>
        </p:nvPicPr>
        <p:blipFill>
          <a:blip r:embed="rId1"/>
          <a:stretch/>
        </p:blipFill>
        <p:spPr>
          <a:xfrm>
            <a:off x="609480" y="1371600"/>
            <a:ext cx="7620120" cy="464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21_logo"/>
          <p:cNvPicPr/>
          <p:nvPr/>
        </p:nvPicPr>
        <p:blipFill>
          <a:blip r:embed="rId2"/>
          <a:stretch/>
        </p:blipFill>
        <p:spPr>
          <a:xfrm>
            <a:off x="5638680" y="5867280"/>
            <a:ext cx="2590920" cy="6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New about 2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ury Sk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0384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thinking and problem-solving skills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and career skills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0" y="2514240"/>
            <a:ext cx="40384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on, collaboration and creativit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, media, and technolog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152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Understanding of 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155480" y="1752480"/>
            <a:ext cx="47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Areas of Empha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p21_logo"/>
          <p:cNvPicPr/>
          <p:nvPr/>
        </p:nvPicPr>
        <p:blipFill>
          <a:blip r:embed="rId1"/>
          <a:stretch/>
        </p:blipFill>
        <p:spPr>
          <a:xfrm>
            <a:off x="5791320" y="5715000"/>
            <a:ext cx="2743200" cy="73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d Technology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NETS-banner-754539"/>
          <p:cNvPicPr/>
          <p:nvPr/>
        </p:nvPicPr>
        <p:blipFill>
          <a:blip r:embed="rId1"/>
          <a:stretch/>
        </p:blipFill>
        <p:spPr>
          <a:xfrm>
            <a:off x="1676520" y="1371600"/>
            <a:ext cx="5638680" cy="42991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5486400" y="624852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2"/>
          <a:stretch/>
        </p:blipFill>
        <p:spPr>
          <a:xfrm>
            <a:off x="3624120" y="3305160"/>
            <a:ext cx="1895760" cy="24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ste"/>
          <p:cNvPicPr/>
          <p:nvPr/>
        </p:nvPicPr>
        <p:blipFill>
          <a:blip r:embed="rId3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E NETS*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vity and Inno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429000" cy="3552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0" y="54864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*Image from: http://www.slideshare.net/kbrooks/21st-century-learning-skills-webin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iste"/>
          <p:cNvPicPr/>
          <p:nvPr/>
        </p:nvPicPr>
        <p:blipFill>
          <a:blip r:embed="rId2"/>
          <a:stretch/>
        </p:blipFill>
        <p:spPr>
          <a:xfrm>
            <a:off x="6172200" y="594360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3:02:03Z</dcterms:created>
  <dc:creator>gail desler</dc:creator>
  <dc:description/>
  <dc:language>en-US</dc:language>
  <cp:lastModifiedBy>kwatt</cp:lastModifiedBy>
  <dcterms:modified xsi:type="dcterms:W3CDTF">2008-09-12T19:08:23Z</dcterms:modified>
  <cp:revision>7</cp:revision>
  <dc:subject/>
  <dc:title>EGUSD Technology Plan 2009 - 2012</dc:title>
</cp:coreProperties>
</file>